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jpeg" ContentType="image/jpeg"/>
  <Override PartName="/ppt/media/image8.jpeg" ContentType="image/jpeg"/>
  <Override PartName="/ppt/media/image2.gif" ContentType="image/gif"/>
  <Override PartName="/ppt/media/image9.jpeg" ContentType="image/jpeg"/>
  <Override PartName="/ppt/media/image5.gif" ContentType="image/gif"/>
  <Override PartName="/ppt/media/image14.jpeg" ContentType="image/jpeg"/>
  <Override PartName="/ppt/media/image16.wmf" ContentType="image/x-wmf"/>
  <Override PartName="/ppt/media/image22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8.wmf" ContentType="image/x-wmf"/>
  <Override PartName="/ppt/media/image17.wmf" ContentType="image/x-wmf"/>
  <Override PartName="/ppt/media/image15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A24-5DAD-4F28-971A-C9B13D3E6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7CC-FE9A-4046-9526-CC92542C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BA7-E346-4628-85AD-3BC1FA87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CC0-4939-43AB-8658-674D6155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36AE-66E3-4288-907D-6DB8F07A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7D9D-4B80-46BB-9BF0-3F4A386A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D980-75D5-477C-A423-432CF52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9A57-EA25-40D1-A8F8-DD32CDC1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10E1-11E9-4A9C-A7D2-074B5D9E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30BD-F0B8-4803-85E3-4469AB13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DB0D-E758-4354-99AF-82C53814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46C-4D5A-4113-8026-56AE459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8F3B-6CE7-4D19-9ED0-771568B5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C834-242A-491E-9A36-5472938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E09-2B55-4A1A-AFAC-6A0311BC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8539-AFFB-4970-B5DF-5CB4A3F4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C061-EC01-4561-BD55-2F12B60F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776-6B51-4B12-A3E5-18149FAC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54B-ED91-440C-A416-A4B6EE91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C6E-E602-41F6-B2B8-D0A590D8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EA9-0BAF-4A1D-B227-D3598FC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4D2-75BD-47F0-93DA-3465ABA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55D-4D00-4B3C-9D13-ACB402DC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62D-72FE-4542-AD25-71AB968B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712E-897F-40BA-8BD1-D32FBDDA399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CA93-76C2-4F39-BC90-092CE77314F7}" type="slidenum">
              <a:rPr b="0" lang="ro-R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gif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.gi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1760" cy="26859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514600" y="609480"/>
            <a:ext cx="5638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UN VENIT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43000" y="2590920"/>
            <a:ext cx="7391520" cy="16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ÎN ÎMPĂRĂŢIA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4572000"/>
            <a:ext cx="8381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VEŞTILOR   MATEMATICE 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703800" y="30492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+ 200 g + 275 g + 325 g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= 1 000g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= 1 k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440" y="198108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Tahoma"/>
              </a:rPr>
              <a:t>1 kg x 7 = 7 kg ( crudităţ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95280" y="4572000"/>
            <a:ext cx="67820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ftă bună 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48520" y="11430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2362320" y="2209680"/>
            <a:ext cx="7195680" cy="4800240"/>
            <a:chOff x="2362320" y="2209680"/>
            <a:chExt cx="7195680" cy="4800240"/>
          </a:xfrm>
        </p:grpSpPr>
        <p:grpSp>
          <p:nvGrpSpPr>
            <p:cNvPr id="111" name=""/>
            <p:cNvGrpSpPr/>
            <p:nvPr/>
          </p:nvGrpSpPr>
          <p:grpSpPr>
            <a:xfrm>
              <a:off x="2362320" y="2209680"/>
              <a:ext cx="887040" cy="871920"/>
              <a:chOff x="2362320" y="2209680"/>
              <a:chExt cx="887040" cy="871920"/>
            </a:xfrm>
          </p:grpSpPr>
          <p:sp>
            <p:nvSpPr>
              <p:cNvPr id="112" name="" hidden="1"/>
              <p:cNvSpPr/>
              <p:nvPr/>
            </p:nvSpPr>
            <p:spPr>
              <a:xfrm>
                <a:off x="2362320" y="2209680"/>
                <a:ext cx="887040" cy="87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62320" y="2209680"/>
                <a:ext cx="887040" cy="8719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57880" y="2500200"/>
                <a:ext cx="295560" cy="290520"/>
              </a:xfrm>
              <a:prstGeom prst="rect">
                <a:avLst/>
              </a:prstGeom>
              <a:solidFill>
                <a:srgbClr val="cccc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62320" y="2209680"/>
                <a:ext cx="887040" cy="871920"/>
              </a:xfrm>
              <a:prstGeom prst="rtTriangle">
                <a:avLst/>
              </a:pr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657880" y="2500200"/>
                <a:ext cx="295560" cy="29052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7" name="000803_1090_2051_v__v" descr=""/>
            <p:cNvPicPr/>
            <p:nvPr/>
          </p:nvPicPr>
          <p:blipFill>
            <a:blip r:embed="rId2"/>
            <a:stretch/>
          </p:blipFill>
          <p:spPr>
            <a:xfrm>
              <a:off x="2476440" y="3124080"/>
              <a:ext cx="6629040" cy="37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3390840" y="2552400"/>
              <a:ext cx="548604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Diplomă de merit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360" y="2209680"/>
              <a:ext cx="62816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0" name="BS01044_" descr=""/>
            <p:cNvPicPr/>
            <p:nvPr/>
          </p:nvPicPr>
          <p:blipFill>
            <a:blip r:embed="rId3"/>
            <a:stretch/>
          </p:blipFill>
          <p:spPr>
            <a:xfrm>
              <a:off x="2362320" y="3124080"/>
              <a:ext cx="1143000" cy="107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BS00348_" descr=""/>
            <p:cNvPicPr/>
            <p:nvPr/>
          </p:nvPicPr>
          <p:blipFill>
            <a:blip r:embed="rId4"/>
            <a:stretch/>
          </p:blipFill>
          <p:spPr>
            <a:xfrm>
              <a:off x="7962480" y="3009600"/>
              <a:ext cx="10753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BD05102_" descr=""/>
            <p:cNvPicPr/>
            <p:nvPr/>
          </p:nvPicPr>
          <p:blipFill>
            <a:blip r:embed="rId5"/>
            <a:stretch/>
          </p:blipFill>
          <p:spPr>
            <a:xfrm>
              <a:off x="4991040" y="5752800"/>
              <a:ext cx="1548000" cy="125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4343400" y="3200400"/>
            <a:ext cx="1981080" cy="2743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438280" y="45720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LOR  MAI  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STEŢI  COPII,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224964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63868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24964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666880" y="0"/>
            <a:ext cx="4419720" cy="3417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776920" y="83808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PUPICI 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3300"/>
                </a:solidFill>
                <a:latin typeface="Tahoma"/>
              </a:rPr>
              <a:t>ÎNCURAJAR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4572000"/>
            <a:ext cx="297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 Black"/>
              </a:rPr>
              <a:t>CĂRŢI  PENTRU  FIECARE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201760" cy="268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40320" y="209520"/>
            <a:ext cx="5726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Pentru că ştiu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cât de  mult iubiţi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poveştile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99"/>
                </a:solidFill>
                <a:latin typeface="Comic Sans MS"/>
              </a:rPr>
              <a:t>vă invit la drum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41972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66"/>
                </a:solidFill>
                <a:latin typeface="Comic Sans MS"/>
              </a:rPr>
              <a:t>Ne revedem la sfârşitul călătoriei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3200400" cy="274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920" y="304920"/>
            <a:ext cx="8229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Pentru a creşte sănătos, un copil are nevoie de  cel puţin 9 ore de somn pe noapt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Ana se culcă la orele 24 şi este sculată la orele 7, pentru a merge la şcoal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Doarme suficient fetiţ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343640" cy="5676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9600" y="5943600"/>
            <a:ext cx="457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Comic Sans MS"/>
              </a:rPr>
              <a:t>7 ore – 0 ore = 7 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8880" y="4317840"/>
            <a:ext cx="1905120" cy="2540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674800" cy="3581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81160" y="1752480"/>
            <a:ext cx="8448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a să ajungă la şcoală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opiii dintr-un sat africa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parcurg zilnic 2 km şi 6 hm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Căţi dam au de mer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Comic Sans MS"/>
              </a:rPr>
              <a:t>dus-întors aceşti copii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0"/>
            <a:ext cx="8207280" cy="5637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59960" y="5567400"/>
            <a:ext cx="73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 Black"/>
              </a:rPr>
              <a:t>2 km 6 hm =200 dam + 60 dam = 260 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6095880"/>
            <a:ext cx="47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cc00"/>
                </a:solidFill>
                <a:latin typeface="Arial Black"/>
              </a:rPr>
              <a:t>260 dam x 2 = 520 d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568920" y="3581280"/>
            <a:ext cx="2575080" cy="3276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33240" y="304920"/>
            <a:ext cx="8138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Nenea Mihai ar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la piciorul drept numărul 40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iar la cel stâng numărul 43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Ştiind că o perech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de pantofi costă 39 lei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aflaţi ce sumă plăteş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66ffff"/>
                </a:solidFill>
                <a:latin typeface="Tahoma"/>
              </a:rPr>
              <a:t>la cas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3606840" cy="3733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136600" y="1295280"/>
            <a:ext cx="46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ffff"/>
                </a:solidFill>
                <a:latin typeface="Arial Black"/>
              </a:rPr>
              <a:t>39 lei x 2 = 78 le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210360" y="3124080"/>
            <a:ext cx="2933640" cy="3733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2040" y="380880"/>
            <a:ext cx="735264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	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Pentru o salată de crudităţ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se folosesc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morcov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00 g ţelină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275 g castraveţ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325 g roşi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	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Calculaţi câte  k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de crudităţi se foloses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00"/>
                </a:solidFill>
                <a:latin typeface="Arial Black"/>
              </a:rPr>
              <a:t>pentru 7 sa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50:05Z</dcterms:created>
  <dc:creator>calcu</dc:creator>
  <dc:description/>
  <dc:language>en-US</dc:language>
  <cp:lastModifiedBy>calcu</cp:lastModifiedBy>
  <dcterms:modified xsi:type="dcterms:W3CDTF">2007-10-25T07:14:47Z</dcterms:modified>
  <cp:revision>24</cp:revision>
  <dc:subject/>
  <dc:title>Slide 1</dc:title>
</cp:coreProperties>
</file>